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1EC-CE2C-4D81-847D-F0E7E0629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7894-C199-44B1-BCC7-A25C085E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603A-8F22-45F4-8590-69394807C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04DF-43FF-4C52-9C08-52251D452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FEC7-4977-4644-B196-9AADEE9AE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EF0D-D14C-43FA-8528-281C6BB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92C5-62B1-4306-BE68-E7CE2BA7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D53-ED2C-4CEC-B857-0CCE1C38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653-7283-4D13-8226-A229DDD6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A72E-E8D0-4AB0-9C75-725F734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06F7-A3E7-4E12-B2BA-5D3F7620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299C-BEC8-45E0-8A8D-4F83AD6AB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23ED-B5A4-4757-93F7-31D18ACD2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0T11:54:09Z</dcterms:created>
  <dc:creator/>
  <dc:description/>
  <dc:language>en-US</dc:language>
  <cp:lastModifiedBy>Alexey Zhilin</cp:lastModifiedBy>
  <dcterms:modified xsi:type="dcterms:W3CDTF">2009-01-26T12:07:37Z</dcterms:modified>
  <cp:revision>7</cp:revision>
  <dc:subject/>
  <dc:title>Slide 1</dc:title>
</cp:coreProperties>
</file>