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08C6-37E5-41D7-91E4-BC3EF0D57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D094-8F5B-4E71-A504-F02157A7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43A9-BF76-4968-A1C1-990EC925B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5A26-F045-44F3-80FB-5635D3503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56C-B51B-46A4-85CA-8D30385C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18B-AE53-498D-B499-52ED54A71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AE7F-214E-46AA-82B5-871B3659A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CB55-7F51-41FA-9A42-35B1D362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7E35-714C-4334-B5D1-78AEC3AC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D04F-27E8-4523-BFDA-61DA4384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76D4-E4E3-4E78-85C4-E2A8D3FA4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EB22-1049-45A8-9D4F-545FE7D1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EA86-8D6A-41A5-A9E9-4588ED79F5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11:49:47Z</dcterms:created>
  <dc:creator/>
  <dc:description/>
  <dc:language>en-US</dc:language>
  <cp:lastModifiedBy>Alexey Zhilin</cp:lastModifiedBy>
  <dcterms:modified xsi:type="dcterms:W3CDTF">2009-01-26T12:06:22Z</dcterms:modified>
  <cp:revision>7</cp:revision>
  <dc:subject/>
  <dc:title>Slide 1</dc:title>
</cp:coreProperties>
</file>