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457BA-62DD-4FFB-88FC-A07EB5E0B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A9695-C75A-4796-B4F3-A968D1FF3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48F11-6975-468E-9DB3-4143A220F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F0986-98C0-46A9-ACAE-4653570BA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ABF48-E2E8-44CE-BAC9-146F28FCE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6B6A9-26BF-4854-A600-C2B008530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D9BAA-59C2-4B6A-922F-8D5CD9C0A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AA7ED-95B2-4BF3-B4CB-33FABCA63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88E0C-4129-4D75-B5C6-F2466C104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20573-B492-41F6-BE01-4A27A446C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A10D5-2B46-4D76-A705-F00A8006D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F18C9-E1E8-4CEB-8320-A37E23313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64727-6BFE-44E2-95A3-C136CD20730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11:49:47Z</dcterms:created>
  <dc:creator/>
  <dc:description/>
  <dc:language>en-US</dc:language>
  <cp:lastModifiedBy>Alexey Zhilin</cp:lastModifiedBy>
  <dcterms:modified xsi:type="dcterms:W3CDTF">2009-01-26T12:06:22Z</dcterms:modified>
  <cp:revision>7</cp:revision>
  <dc:subject/>
  <dc:title>Slide 1</dc:title>
</cp:coreProperties>
</file>