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E55B-208C-4EF1-9DDB-2D70AACA7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5AAA-12AF-422F-8A42-F0F29BCA4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E4C5-61A1-4185-B46D-521C82641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6130-69C6-4799-B12C-BDCB395C8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F277-D560-4C10-A25B-A77A764B7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C4C4-C069-4450-87AC-A38A3D293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4B8B-AC2D-409D-8E00-1536AF42B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4B61-1261-44B8-89E7-E23C8846E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DF29-C438-4E27-AF8D-C94E852FA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0C9A-66F6-456B-BA84-225C54203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EDFD-FBC6-40CB-A831-DF901225A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24BF-1252-40F8-91C3-9A9074C4A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1D1AC-AC64-483D-8F1A-6309594FDE9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11:49:47Z</dcterms:created>
  <dc:creator/>
  <dc:description/>
  <dc:language>en-US</dc:language>
  <cp:lastModifiedBy>Alexey Zhilin</cp:lastModifiedBy>
  <dcterms:modified xsi:type="dcterms:W3CDTF">2009-01-26T12:06:22Z</dcterms:modified>
  <cp:revision>7</cp:revision>
  <dc:subject/>
  <dc:title>Slide 1</dc:title>
</cp:coreProperties>
</file>