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F4A5-9DB8-41F3-9732-4849293F2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743F-8E66-45B7-AE7B-874944510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20A5-A11F-4929-AD3C-5DD90C6F4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9556-5314-463E-89E2-8B62CB870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8071-B8CF-4E92-B54B-C07B84D84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C1EC-CC9C-40AA-8AAB-D2FF3F430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F87B-0E58-439A-AB51-1509EDFD3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42B3-2620-45C2-A590-53EDEB20A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94BD-8286-490B-BB7F-43346059A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5145-582A-46F1-83A7-7084CFCF0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5FC3-6E18-4398-BB50-F6EB50823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6915-4B3C-4165-A46F-FEF6FA682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B2E6D-FA28-4397-B733-DA11D487696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11:49:47Z</dcterms:created>
  <dc:creator/>
  <dc:description/>
  <dc:language>en-US</dc:language>
  <cp:lastModifiedBy>Alexey Zhilin</cp:lastModifiedBy>
  <dcterms:modified xsi:type="dcterms:W3CDTF">2009-01-26T12:06:22Z</dcterms:modified>
  <cp:revision>7</cp:revision>
  <dc:subject/>
  <dc:title>Slide 1</dc:title>
</cp:coreProperties>
</file>